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C017-DB16-4EE4-91E2-502E6345A4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5B0F-D99E-47D4-8B5A-6444E17DCE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AB56-BAFE-4F69-B724-52F08D9241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E4C-CD81-4D75-B663-DBE50FCC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371-68F0-4DA5-A1A1-1929A9E1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CAC-5992-447D-9646-87294670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CE8-9360-4E88-93B7-AE5EFA0E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81A-F9EB-43DF-9F29-9F4F6848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F9A-33A2-4DFA-986E-34CE463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9A6-76B2-420A-89B2-F0EC9D96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6A3-CF04-4460-8F90-BE208FA1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46D-EC48-42B2-8ED7-F4BB10E6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2D6-4D83-46B1-8266-86574857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1E7-7232-4769-81FF-9B6056B6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CF2-F287-48EC-BA57-E4980C91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DACD-6619-4877-A274-3820CACCE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-231840" y="-23760"/>
            <a:ext cx="975996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-262080"/>
            <a:ext cx="9156960" cy="210348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2" descr=""/>
          <p:cNvPicPr/>
          <p:nvPr/>
        </p:nvPicPr>
        <p:blipFill>
          <a:blip r:embed="rId3"/>
          <a:stretch/>
        </p:blipFill>
        <p:spPr>
          <a:xfrm>
            <a:off x="-6480" y="1852560"/>
            <a:ext cx="9156960" cy="933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0" y="18774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замена устаревшего оборудова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использование  современных устройствах каталитической газоочистки  выделяемых при производстве  веществ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рименение  метода адсорбционной очист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2"/>
          <a:stretch/>
        </p:blipFill>
        <p:spPr>
          <a:xfrm>
            <a:off x="-390600" y="-365040"/>
            <a:ext cx="99313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-1857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Book Antiqua"/>
                <a:ea typeface="Arial Unicode MS"/>
              </a:rPr>
              <a:t>Актуальность исследования:</a:t>
            </a:r>
            <a:r>
              <a:rPr b="0" lang="ru-RU" sz="2800" spc="-1" strike="noStrike">
                <a:solidFill>
                  <a:srgbClr val="002060"/>
                </a:solidFill>
                <a:latin typeface="Book Antiqua"/>
                <a:ea typeface="Arial Unicode MS"/>
              </a:rPr>
              <a:t> Возрастающие загрязнение окружающей среды химическими веществами, выбрасываемыми промышленным предприятием, вызывает распространение и рост многих заболеваний жителей  г. Рузае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Book Antiqua"/>
                <a:ea typeface="Arial Unicode MS"/>
              </a:rPr>
              <a:t>Объект исследования: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Book Antiqua"/>
                <a:ea typeface="Arial Unicode MS"/>
              </a:rPr>
              <a:t>Республика Мордовия, город Рузаевка,  РМ Рейл АО «Рузхимма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Book Antiqua"/>
                <a:ea typeface="Arial Unicode MS"/>
              </a:rPr>
              <a:t>Предмет  исследования: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  <a:ea typeface="Arial Unicode MS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Book Antiqua"/>
                <a:ea typeface="Arial Unicode MS"/>
              </a:rPr>
              <a:t> Выбросы промышленного производства  РМ Рейл АО «Рузхиммаш» с 2022по 2024 г.г, их влияние на здоровье населения г.Рузае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0" y="3348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Book Antiqua"/>
              </a:rPr>
              <a:t>Цель исследования:</a:t>
            </a: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 Выявить химические соединения, выбрасываемые РМ Рейл АО «Рузхиммаш», оказывающие наибольшее отрицательное влияние на здоровье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 </a:t>
            </a: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 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Book Antiqua"/>
              </a:rPr>
              <a:t>Задачи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- Ознакомиться с перечнем химических веществ, выбрасываемых  РМ Рейл АО «Рузхиммаш» за 2022, 2023и 2024 г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- Сопоставить полученные данные с ПД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- Выявить отрицательное влияние каждого загрязнителя на организм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- Изучить статистические  данные заболеваемости, согласно статистике  ГБУЗ Республика Мордовия  «Рузаевская ЦРБ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- Сопоставить данные роста численности заболеваний с выбросами загрязн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Жирова\Desktop\конкурс\orig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57164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Объект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C:\Users\Жирова\Desktop\конкурс\ruz.jpg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32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Users\Жирова\Desktop\конкурс\L_height.jpeg"/>
          <p:cNvPicPr/>
          <p:nvPr/>
        </p:nvPicPr>
        <p:blipFill>
          <a:blip r:embed="rId3"/>
          <a:stretch/>
        </p:blipFill>
        <p:spPr>
          <a:xfrm>
            <a:off x="0" y="0"/>
            <a:ext cx="4643280" cy="31813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Old Comedy"/>
              </a:rPr>
              <a:t>Выпускаемая проду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C:\Users\Жирова\Desktop\конкурс\images (1).jpeg"/>
          <p:cNvPicPr/>
          <p:nvPr/>
        </p:nvPicPr>
        <p:blipFill>
          <a:blip r:embed="rId4"/>
          <a:stretch/>
        </p:blipFill>
        <p:spPr>
          <a:xfrm>
            <a:off x="4929120" y="3214800"/>
            <a:ext cx="4214880" cy="364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C:\Users\Жирова\Desktop\конкурс\dsc5009.jpg"/>
          <p:cNvPicPr/>
          <p:nvPr/>
        </p:nvPicPr>
        <p:blipFill>
          <a:blip r:embed="rId5"/>
          <a:stretch/>
        </p:blipFill>
        <p:spPr>
          <a:xfrm>
            <a:off x="0" y="3071880"/>
            <a:ext cx="52862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1" descr=""/>
          <p:cNvPicPr/>
          <p:nvPr/>
        </p:nvPicPr>
        <p:blipFill>
          <a:blip r:embed="rId2"/>
          <a:stretch/>
        </p:blipFill>
        <p:spPr>
          <a:xfrm>
            <a:off x="-96840" y="-341280"/>
            <a:ext cx="933300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Таблица 2" descr=""/>
          <p:cNvPicPr/>
          <p:nvPr/>
        </p:nvPicPr>
        <p:blipFill>
          <a:blip r:embed="rId3"/>
          <a:stretch/>
        </p:blipFill>
        <p:spPr>
          <a:xfrm>
            <a:off x="-73080" y="712800"/>
            <a:ext cx="929016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2"/>
          <a:stretch/>
        </p:blipFill>
        <p:spPr>
          <a:xfrm>
            <a:off x="-73080" y="-311040"/>
            <a:ext cx="9442440" cy="1901880"/>
          </a:xfrm>
          <a:prstGeom prst="rect">
            <a:avLst/>
          </a:prstGeom>
          <a:ln w="0">
            <a:noFill/>
          </a:ln>
        </p:spPr>
      </p:pic>
      <p:pic>
        <p:nvPicPr>
          <p:cNvPr id="62" name="Диаграмма 3" descr=""/>
          <p:cNvPicPr/>
          <p:nvPr/>
        </p:nvPicPr>
        <p:blipFill>
          <a:blip r:embed="rId3"/>
          <a:stretch/>
        </p:blipFill>
        <p:spPr>
          <a:xfrm>
            <a:off x="0" y="1571760"/>
            <a:ext cx="8929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1" descr=""/>
          <p:cNvPicPr/>
          <p:nvPr/>
        </p:nvPicPr>
        <p:blipFill>
          <a:blip r:embed="rId2"/>
          <a:stretch/>
        </p:blipFill>
        <p:spPr>
          <a:xfrm>
            <a:off x="-55440" y="-311040"/>
            <a:ext cx="9254880" cy="1901880"/>
          </a:xfrm>
          <a:prstGeom prst="rect">
            <a:avLst/>
          </a:prstGeom>
          <a:ln w="0">
            <a:noFill/>
          </a:ln>
        </p:spPr>
      </p:pic>
      <p:pic>
        <p:nvPicPr>
          <p:cNvPr id="64" name="Диаграмма 4" descr=""/>
          <p:cNvPicPr/>
          <p:nvPr/>
        </p:nvPicPr>
        <p:blipFill>
          <a:blip r:embed="rId3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5:24:00Z</dcterms:created>
  <dc:creator>Артемон</dc:creator>
  <dc:description/>
  <dc:language>en-US</dc:language>
  <cp:lastModifiedBy>Жирова</cp:lastModifiedBy>
  <dcterms:modified xsi:type="dcterms:W3CDTF">2026-02-17T09:58:13Z</dcterms:modified>
  <cp:revision>44</cp:revision>
  <dc:subject/>
  <dc:title>Слайд 1</dc:title>
</cp:coreProperties>
</file>